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CB66-25AF-4B84-B40C-3A7991264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27A-7749-4FA3-824B-872FDAE12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ill Richardson say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79D-726A-478F-88D7-088EA9255C9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75F9-2250-4666-9A65-7EC061C43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F07-EAB6-48AB-B929-39C0E3B3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5F4-D0DC-4285-BA77-E0A46FAB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358-4EAF-454E-AB83-B16B17B1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83B-DFEE-414E-869E-02DF5D09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3971-7CCE-4884-BB1C-B766A69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AF19-FF1B-48B5-894B-DF5360BF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5897-D7CA-4AEA-A4D6-8755AB77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CA8-AAEF-455F-B471-627C2A39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7A62-70A0-47FB-9C44-7C4ED0FF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037F-12CD-43AF-87B5-58E25155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BC37-3431-4B07-A3D0-274DE77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962-DB10-4D93-9C54-5FBD70F7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45F-6BA8-4A65-B345-AE59D99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E1B-4EBA-41D6-B8A2-535E812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F45-0E6C-4F81-97EE-98CD16F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B744-A085-47CA-A25E-30548D45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2D8E-563C-438B-AB2A-DE4C571E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DC5D-FE51-46DF-B42C-13674B03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73FA-41DC-4CAA-86C7-7CE5D63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3FB8-7E77-40B1-8FBD-8A75519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F248-F2A8-477F-A9E2-B216B9F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5CD8-887A-4553-BB1B-3635661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A6B-BB1A-4181-88D7-293C89BB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046B-E1AD-4A8F-BD4F-5388F9A0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D9BB-A68A-4292-B52D-4EEDBEFE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2FCB-A42E-42D2-A7B9-7BF2964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F1B2-4E22-408E-BF93-59E47F6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5175-3274-4442-AC89-577ACF3C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D34B-FCDD-4A29-BEB3-843264DB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A46F-4D1E-4E31-98F8-A082A5C7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4C3F-6F5C-4C62-8652-3829B3A3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AE78-E5F9-43E9-8EC5-7E3CBF5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2294-590E-4697-AA84-60C9F8E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C61-A5BD-42EB-AA59-F603E2F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4FA1-DB4B-423C-98DD-1F23AC1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BD3B-EC58-429F-8177-0D6E184B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F366-5714-4E3E-A6F3-D0397B57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157D-CED1-4E6C-9A62-AAA0400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0926-DE87-495F-9773-8436348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1A6F-4E58-401A-8F9C-46755E6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AAF70-A0E9-4AA2-BDCE-5AAF8624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2B24-97CF-4B89-91E1-BB43A5F4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4BA2-E6DF-44FA-9B1B-9C7F5DC9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6E92-1470-42A0-801A-3DECE3B0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825-78D5-4970-BF72-56C050B4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83C9-A357-4E17-B9FA-0D851D7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56BC-7028-4F82-8B80-F574F3F4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549E-2771-4096-8F72-70E2FB8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8885-5680-4A7B-B30F-3EA6F240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AB25-4585-4396-99EF-77B2FA5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6073-1FC4-42E5-AE7C-D6189C6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F539-5727-413E-95E1-9E76972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4613-2C75-4601-867C-27D6819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9E2C-2525-452B-973D-C3F539C9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D13B-9FA7-4532-AC00-3CE2864E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AA3-F034-4F5A-8FA6-F38FFB6D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41441-DF7D-4290-A916-546EC3E1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5C46-696F-44B1-85F3-8E206470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AEB56-C336-48D2-B328-BFF95C33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43C6D-0BD1-41C9-AFD1-74851294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9F48-4003-47CB-8F6D-BFA31609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5166-585C-40F4-AEE2-DC4098E9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7F0E-2A3E-4407-A59A-38C09D3E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3BE94-724C-4BBC-BD26-EABD10E2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1FC4-036D-4273-B71A-815A9F3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20C5-4793-4253-BD77-BB83E5C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5C5-C796-4657-9454-AD48291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F662-29F1-45D4-9EC8-544F628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0E25-4633-468B-BF96-A438ECA9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37A2C-04DB-4E3A-B078-852C24B0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1A34D-83F1-4F87-97E4-F55334C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0A35-7DAA-4412-A674-37BA0EFF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230F2-E797-4877-82D7-1CAEA0AB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25C82-CAF5-49CE-AB49-66E705C4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27517-5D4A-4DFA-AB54-BCDB470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ECCC-6300-418F-AC2E-81179D17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23DEC-1A4D-495F-AB5B-1FF28C7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80A-F392-462B-BD92-136A716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5D70-4241-4C50-A5A3-A7B5F58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1104-394E-4A8F-83CE-9B4EBD3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C39D-44F0-49C3-AA58-B929BEFD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F134-B0C4-46D3-8FC9-0129DB73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80EE5-8202-452C-BED4-D3D173F9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74B-A6CE-4055-8221-9042310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7D60-EC80-446F-9636-C692C40FB60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AA80-6C67-4296-9D11-72D90A436FA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EF6D-439E-4BD4-B562-77026203C55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ECAD-3190-4CF1-A9B4-324D08BC9D5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90D2-ECDA-4980-A3C3-F65DBD6FF543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AD0-7DBD-4310-83AD-A97A0E2E343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038A-F1F2-4951-8A43-2A0445602D1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AE7-3BF1-4263-8E43-A65A09E8CB2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93FD-E722-42D4-8789-20199C0C239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8CA-73FC-4CB9-A965-D107CB6260C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623D-C0D9-4D37-98D9-A6F76117C36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0F50-B699-45A0-8BC6-DCAA2D2D1E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8448-C35C-4712-9790-3F1163891E4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D8BE-B9EE-4E53-A13A-56E67C45895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dubuque.k12.ia.us/cartoons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3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aula Walser, Director of E- Learning, CESA 6 , Oshkosh, Wiscons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Learner 2.0.png"/>
          <p:cNvPicPr/>
          <p:nvPr/>
        </p:nvPicPr>
        <p:blipFill>
          <a:blip r:embed="rId2"/>
          <a:stretch/>
        </p:blipFill>
        <p:spPr>
          <a:xfrm>
            <a:off x="1219320" y="1335240"/>
            <a:ext cx="65530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-6480" y="590400"/>
            <a:ext cx="8467920" cy="569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4724280" y="2714760"/>
            <a:ext cx="4419720" cy="41432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52280" y="64008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http://www.flickr.com/photos/patrick_q/9817966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12840" y="22860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ll Richardson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osing the Gap – August / September ,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eating a Classroom of Discovery and Wonder by David Davi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5257800" y="152280"/>
            <a:ext cx="3886200" cy="1434600"/>
          </a:xfrm>
          <a:prstGeom prst="rect">
            <a:avLst/>
          </a:prstGeom>
          <a:solidFill>
            <a:srgbClr val="d4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is isn’t Kansas any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2190600" y="25020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2765520" y="1774800"/>
            <a:ext cx="3612960" cy="462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28240" y="1774800"/>
            <a:ext cx="44197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b 2.0 is a term describing changing trends in the use of World Wide Web technology and web design that aims to enhance creativity, secure information sharing, collaboration and functionality of the web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21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reading, Web 2.0 is about writ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companies, Web 2.0 is about communitie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home pages, Web 2.0 is about blog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portals, Web 2.0 is about RS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taxonomy, Web 2.0 is about tag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1.0 was about wires, Web 2.0 is about wirel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ncarta vs Wikipedia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apquests vs Google Maps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IE, Web 2.0 is about FireFox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about dialup, Web 2.0 is about broadband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about lectures, Web 2.0 is about conversations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eb 1.0 was about owning, Web 2.0 is about shar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b 1.0 was about Netscape, Web 2.0 is about Google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ost important word on the internet is not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‘Search’.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ost important word on the internet i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‘Share’.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aring is the driver. Sharing is the DN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Hugh MacLe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http://www.gapingvoid.com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Content Placeholder 4" descr="gotoweb.png"/>
          <p:cNvPicPr/>
          <p:nvPr/>
        </p:nvPicPr>
        <p:blipFill>
          <a:blip r:embed="rId2"/>
          <a:stretch/>
        </p:blipFill>
        <p:spPr>
          <a:xfrm>
            <a:off x="1295280" y="1371600"/>
            <a:ext cx="6934320" cy="4925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609480" y="6324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846 logos as of Monday, March 1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3800520" cy="42670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0" y="6309000"/>
            <a:ext cx="914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Gary Olsen, Higher Education</a:t>
            </a:r>
            <a:r>
              <a:rPr b="0" lang="en-US" sz="1400" spc="-1" strike="noStrike">
                <a:solidFill>
                  <a:srgbClr val="996633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3681360" cy="4343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4"/>
          <a:stretch/>
        </p:blipFill>
        <p:spPr>
          <a:xfrm>
            <a:off x="3048120" y="1581120"/>
            <a:ext cx="3333600" cy="52768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5"/>
          <p:cNvSpPr/>
          <p:nvPr/>
        </p:nvSpPr>
        <p:spPr>
          <a:xfrm>
            <a:off x="4572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0:48:23Z</dcterms:created>
  <dc:creator>cesainst</dc:creator>
  <dc:description/>
  <dc:language>en-US</dc:language>
  <cp:lastModifiedBy>BHS</cp:lastModifiedBy>
  <dcterms:modified xsi:type="dcterms:W3CDTF">2010-06-19T23:38:22Z</dcterms:modified>
  <cp:revision>86</cp:revision>
  <dc:subject/>
  <dc:title>Wiggling  your Way Through The Web:2.0</dc:title>
</cp:coreProperties>
</file>